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8799-7F37-4BC4-BE81-F42124BB3EB8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5645-8144-4601-9087-90DD817C0A71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867E-9779-4111-84F6-4F918EC955FE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29C5-F370-421C-87BD-4A6F4379D9DD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46CB-CDC0-40D4-BBFF-DCEC643FE8E4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6363-F0C1-498B-AF8F-A28BE414BE1B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3035-99F7-45A8-8A92-3EBD3FF173E9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BB55-C8FE-4C5E-8AA6-9D88C12BE92A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422E-C90F-428B-9624-39BBC42C9CF0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8197-55D6-4765-9E98-50C089CBADB2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A908-7350-4335-B3B5-E0F783CA9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C7D3-3FB3-4FB2-BD4B-54A6AAFC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FD4D-5E99-4DC0-B21E-9602C8C54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A96F-FD85-458F-83BC-A747FFD64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8B4A-DF42-40BF-BFD0-1E57B17C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EAA6-5B3E-4EC9-AD8F-4A2A1654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2A8E-5E1D-4697-91AA-0F8C68C8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6738-16D8-4A6D-A9CD-95355C33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1C10-AA45-4F91-9512-F0FC80CE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E1DD-DB5F-421D-A94E-5C5AB932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96D6-23B8-4414-B82C-FCE31C34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7F70-2C4B-45A4-B8AF-1389D1BA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4A65-7A07-45A9-93B4-2B26AC0DA2F5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Otsikko 1" descr=""/>
          <p:cNvPicPr/>
          <p:nvPr/>
        </p:nvPicPr>
        <p:blipFill>
          <a:blip r:embed="rId1"/>
          <a:stretch/>
        </p:blipFill>
        <p:spPr>
          <a:xfrm>
            <a:off x="353880" y="781200"/>
            <a:ext cx="8240760" cy="2054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3000240" y="3286080"/>
            <a:ext cx="233388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kstikehys 1"/>
          <p:cNvSpPr/>
          <p:nvPr/>
        </p:nvSpPr>
        <p:spPr>
          <a:xfrm>
            <a:off x="380520" y="1143000"/>
            <a:ext cx="82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ysiikassa  kaikkia aineellisia olioita sanotaan kappaleik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kstikehys 2"/>
          <p:cNvSpPr/>
          <p:nvPr/>
        </p:nvSpPr>
        <p:spPr>
          <a:xfrm>
            <a:off x="879840" y="1928880"/>
            <a:ext cx="32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Kappaleita voivat o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928800" y="2571840"/>
            <a:ext cx="780840" cy="780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2214720" y="2500200"/>
            <a:ext cx="1914480" cy="781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3"/>
          <a:stretch/>
        </p:blipFill>
        <p:spPr>
          <a:xfrm>
            <a:off x="4786200" y="2571840"/>
            <a:ext cx="552600" cy="1104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4"/>
          <a:stretch/>
        </p:blipFill>
        <p:spPr>
          <a:xfrm>
            <a:off x="7000920" y="3000240"/>
            <a:ext cx="1285920" cy="533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5"/>
          <a:stretch/>
        </p:blipFill>
        <p:spPr>
          <a:xfrm>
            <a:off x="7500960" y="4500720"/>
            <a:ext cx="782640" cy="1071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"/>
          <p:cNvPicPr/>
          <p:nvPr/>
        </p:nvPicPr>
        <p:blipFill>
          <a:blip r:embed="rId6"/>
          <a:stretch/>
        </p:blipFill>
        <p:spPr>
          <a:xfrm>
            <a:off x="4286160" y="4143240"/>
            <a:ext cx="1305000" cy="1019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7"/>
          <a:stretch/>
        </p:blipFill>
        <p:spPr>
          <a:xfrm>
            <a:off x="1428840" y="4429080"/>
            <a:ext cx="135252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kstikehys 1"/>
          <p:cNvSpPr/>
          <p:nvPr/>
        </p:nvSpPr>
        <p:spPr>
          <a:xfrm>
            <a:off x="2487240" y="214200"/>
            <a:ext cx="362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Vuorovaiku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kstikehys 2"/>
          <p:cNvSpPr/>
          <p:nvPr/>
        </p:nvSpPr>
        <p:spPr>
          <a:xfrm>
            <a:off x="444240" y="857160"/>
            <a:ext cx="811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Vuorovaikutuksessa kaksi kappaletta vaikuttaa toisiin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kstikehys 8"/>
          <p:cNvSpPr/>
          <p:nvPr/>
        </p:nvSpPr>
        <p:spPr>
          <a:xfrm>
            <a:off x="500040" y="1357200"/>
            <a:ext cx="992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Vaikutukset havaitaan molemmissa kappaleis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amanaikaise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71680" y="2357280"/>
            <a:ext cx="1428480" cy="800280"/>
          </a:xfrm>
          <a:prstGeom prst="rect">
            <a:avLst/>
          </a:prstGeom>
          <a:ln w="0">
            <a:noFill/>
          </a:ln>
        </p:spPr>
      </p:pic>
      <p:sp>
        <p:nvSpPr>
          <p:cNvPr id="63" name="Tekstikehys 10"/>
          <p:cNvSpPr/>
          <p:nvPr/>
        </p:nvSpPr>
        <p:spPr>
          <a:xfrm>
            <a:off x="2269440" y="2357280"/>
            <a:ext cx="59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Kun pallo osuu tennismailaa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vaikuttaa maila palloon ja pallo mail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571680" y="3429000"/>
            <a:ext cx="885600" cy="1123920"/>
          </a:xfrm>
          <a:prstGeom prst="rect">
            <a:avLst/>
          </a:prstGeom>
          <a:ln w="0">
            <a:noFill/>
          </a:ln>
        </p:spPr>
      </p:pic>
      <p:sp>
        <p:nvSpPr>
          <p:cNvPr id="65" name="Tekstikehys 12"/>
          <p:cNvSpPr/>
          <p:nvPr/>
        </p:nvSpPr>
        <p:spPr>
          <a:xfrm>
            <a:off x="2710080" y="3357720"/>
            <a:ext cx="535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Kun meteori törmää maaha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kappaleiden vuorovaikutuksen tak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kstikehys 13"/>
          <p:cNvSpPr/>
          <p:nvPr/>
        </p:nvSpPr>
        <p:spPr>
          <a:xfrm>
            <a:off x="2662560" y="4143240"/>
            <a:ext cx="56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aan pinta muuttuu ( syntyy kuopp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kstikehys 14"/>
          <p:cNvSpPr/>
          <p:nvPr/>
        </p:nvSpPr>
        <p:spPr>
          <a:xfrm>
            <a:off x="2691720" y="4572000"/>
            <a:ext cx="33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eteori liike pysähty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kstikehys 15"/>
          <p:cNvSpPr/>
          <p:nvPr/>
        </p:nvSpPr>
        <p:spPr>
          <a:xfrm>
            <a:off x="-226800" y="5500800"/>
            <a:ext cx="905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Vuorovaikutus voi siis muuttaa kappaleen muotoa tai liiketil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kstikehys 2"/>
          <p:cNvSpPr/>
          <p:nvPr/>
        </p:nvSpPr>
        <p:spPr>
          <a:xfrm>
            <a:off x="1375560" y="714240"/>
            <a:ext cx="548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Vuorovaikutuksen laj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kstikehys 3"/>
          <p:cNvSpPr/>
          <p:nvPr/>
        </p:nvSpPr>
        <p:spPr>
          <a:xfrm>
            <a:off x="449640" y="1357200"/>
            <a:ext cx="307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tävuorovaiku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kstikehys 4"/>
          <p:cNvSpPr/>
          <p:nvPr/>
        </p:nvSpPr>
        <p:spPr>
          <a:xfrm>
            <a:off x="4643280" y="1428840"/>
            <a:ext cx="407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Kosketusvuorovaiku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"/>
          <p:cNvPicPr/>
          <p:nvPr/>
        </p:nvPicPr>
        <p:blipFill>
          <a:blip r:embed="rId1"/>
          <a:stretch/>
        </p:blipFill>
        <p:spPr>
          <a:xfrm>
            <a:off x="357120" y="2643120"/>
            <a:ext cx="110664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"/>
          <p:cNvPicPr/>
          <p:nvPr/>
        </p:nvPicPr>
        <p:blipFill>
          <a:blip r:embed="rId2"/>
          <a:stretch/>
        </p:blipFill>
        <p:spPr>
          <a:xfrm>
            <a:off x="2357280" y="2786040"/>
            <a:ext cx="781200" cy="1085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"/>
          <p:cNvPicPr/>
          <p:nvPr/>
        </p:nvPicPr>
        <p:blipFill>
          <a:blip r:embed="rId3"/>
          <a:stretch/>
        </p:blipFill>
        <p:spPr>
          <a:xfrm>
            <a:off x="285840" y="4643280"/>
            <a:ext cx="1439640" cy="795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4"/>
          <a:stretch/>
        </p:blipFill>
        <p:spPr>
          <a:xfrm>
            <a:off x="2286000" y="4786200"/>
            <a:ext cx="914400" cy="1171800"/>
          </a:xfrm>
          <a:prstGeom prst="rect">
            <a:avLst/>
          </a:prstGeom>
          <a:ln w="0">
            <a:noFill/>
          </a:ln>
        </p:spPr>
      </p:pic>
      <p:sp>
        <p:nvSpPr>
          <p:cNvPr id="76" name="Tekstikehys 14"/>
          <p:cNvSpPr/>
          <p:nvPr/>
        </p:nvSpPr>
        <p:spPr>
          <a:xfrm>
            <a:off x="315000" y="4071960"/>
            <a:ext cx="28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gravitaatiovuorovaiku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kstikehys 15"/>
          <p:cNvSpPr/>
          <p:nvPr/>
        </p:nvSpPr>
        <p:spPr>
          <a:xfrm>
            <a:off x="50400" y="585792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Magneettin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vuorovaiku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kstikehys 16"/>
          <p:cNvSpPr/>
          <p:nvPr/>
        </p:nvSpPr>
        <p:spPr>
          <a:xfrm>
            <a:off x="2037600" y="600084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Sähköi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vuorovaiku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kstikehys 17"/>
          <p:cNvSpPr/>
          <p:nvPr/>
        </p:nvSpPr>
        <p:spPr>
          <a:xfrm>
            <a:off x="4302360" y="3643200"/>
            <a:ext cx="21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tukivuorovaiku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kstikehys 18"/>
          <p:cNvSpPr/>
          <p:nvPr/>
        </p:nvSpPr>
        <p:spPr>
          <a:xfrm>
            <a:off x="7197120" y="357192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ilmanvas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kstikehys 19"/>
          <p:cNvSpPr/>
          <p:nvPr/>
        </p:nvSpPr>
        <p:spPr>
          <a:xfrm>
            <a:off x="4521240" y="557208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Väliaineen vas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kstikehys 20"/>
          <p:cNvSpPr/>
          <p:nvPr/>
        </p:nvSpPr>
        <p:spPr>
          <a:xfrm>
            <a:off x="7286760" y="5929200"/>
            <a:ext cx="77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kit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1" descr=""/>
          <p:cNvPicPr/>
          <p:nvPr/>
        </p:nvPicPr>
        <p:blipFill>
          <a:blip r:embed="rId5"/>
          <a:stretch/>
        </p:blipFill>
        <p:spPr>
          <a:xfrm>
            <a:off x="4357800" y="4357800"/>
            <a:ext cx="2381040" cy="933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2" descr=""/>
          <p:cNvPicPr/>
          <p:nvPr/>
        </p:nvPicPr>
        <p:blipFill>
          <a:blip r:embed="rId6"/>
          <a:stretch/>
        </p:blipFill>
        <p:spPr>
          <a:xfrm>
            <a:off x="7000920" y="1928880"/>
            <a:ext cx="1838160" cy="1428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3" descr=""/>
          <p:cNvPicPr/>
          <p:nvPr/>
        </p:nvPicPr>
        <p:blipFill>
          <a:blip r:embed="rId7"/>
          <a:stretch/>
        </p:blipFill>
        <p:spPr>
          <a:xfrm>
            <a:off x="7105680" y="4286160"/>
            <a:ext cx="1824120" cy="1224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4" descr=""/>
          <p:cNvPicPr/>
          <p:nvPr/>
        </p:nvPicPr>
        <p:blipFill>
          <a:blip r:embed="rId8"/>
          <a:stretch/>
        </p:blipFill>
        <p:spPr>
          <a:xfrm>
            <a:off x="4572000" y="1876320"/>
            <a:ext cx="10000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285840" y="357120"/>
            <a:ext cx="2114640" cy="2143080"/>
          </a:xfrm>
          <a:prstGeom prst="rect">
            <a:avLst/>
          </a:prstGeom>
          <a:ln w="0">
            <a:noFill/>
          </a:ln>
        </p:spPr>
      </p:pic>
      <p:sp>
        <p:nvSpPr>
          <p:cNvPr id="88" name="Tekstikehys 2"/>
          <p:cNvSpPr/>
          <p:nvPr/>
        </p:nvSpPr>
        <p:spPr>
          <a:xfrm>
            <a:off x="2464560" y="642960"/>
            <a:ext cx="646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n lintu lentää, se on etävuorovaikutukses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n kanssa ja kosketusvuorovaikutukse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man kans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500040" y="3071880"/>
            <a:ext cx="1781280" cy="1781280"/>
          </a:xfrm>
          <a:prstGeom prst="rect">
            <a:avLst/>
          </a:prstGeom>
          <a:ln w="0">
            <a:noFill/>
          </a:ln>
        </p:spPr>
      </p:pic>
      <p:sp>
        <p:nvSpPr>
          <p:cNvPr id="90" name="Tekstikehys 4"/>
          <p:cNvSpPr/>
          <p:nvPr/>
        </p:nvSpPr>
        <p:spPr>
          <a:xfrm>
            <a:off x="2500200" y="3357720"/>
            <a:ext cx="639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ikki Maan  pinnalla olevat kappaleet ov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ävuorovaikutuksessa Maan kanssa ja kosketusvuorovaikutuksessa  Maan pinnan kans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Tarkastellaan jalkapalloa hetkellä,  jolloin jalka osuu palloon, mutta pallo on vielä kosketuksissa maan kanssa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3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Kartoitetaan vuorovaikutukset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3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Kuvataan vuorovaikutuksia nuolilla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3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403280" y="3357720"/>
            <a:ext cx="5505480" cy="301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620640" y="163656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Ryhmä 14"/>
          <p:cNvGrpSpPr/>
          <p:nvPr/>
        </p:nvGrpSpPr>
        <p:grpSpPr>
          <a:xfrm>
            <a:off x="1214280" y="2500200"/>
            <a:ext cx="2232360" cy="2503440"/>
            <a:chOff x="1214280" y="2500200"/>
            <a:chExt cx="2232360" cy="2503440"/>
          </a:xfrm>
        </p:grpSpPr>
        <p:sp>
          <p:nvSpPr>
            <p:cNvPr id="97" name="Rectangle 6"/>
            <p:cNvSpPr/>
            <p:nvPr/>
          </p:nvSpPr>
          <p:spPr>
            <a:xfrm>
              <a:off x="1214280" y="4500360"/>
              <a:ext cx="2232360" cy="503280"/>
            </a:xfrm>
            <a:prstGeom prst="rect">
              <a:avLst/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Maa (keskipist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5"/>
            <p:cNvSpPr/>
            <p:nvPr/>
          </p:nvSpPr>
          <p:spPr>
            <a:xfrm>
              <a:off x="1857240" y="2500200"/>
              <a:ext cx="914400" cy="914400"/>
            </a:xfrm>
            <a:prstGeom prst="ellipse">
              <a:avLst/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l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23"/>
            <p:cNvSpPr/>
            <p:nvPr/>
          </p:nvSpPr>
          <p:spPr>
            <a:xfrm>
              <a:off x="2286000" y="3429000"/>
              <a:ext cx="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kstikehys 12"/>
          <p:cNvSpPr/>
          <p:nvPr/>
        </p:nvSpPr>
        <p:spPr>
          <a:xfrm>
            <a:off x="3319920" y="3000240"/>
            <a:ext cx="20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Maa vetää pall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kstikehys 13"/>
          <p:cNvSpPr/>
          <p:nvPr/>
        </p:nvSpPr>
        <p:spPr>
          <a:xfrm>
            <a:off x="3389400" y="350028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Pallo vetää Ma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56000" y="335772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979640" y="3284640"/>
            <a:ext cx="0" cy="122400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4560" y="1197000"/>
            <a:ext cx="465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vitaatiovuorovaiku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0" y="1125000"/>
            <a:ext cx="77040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allo on kosketusvuorovaikutuksessa maanpinnan kanssa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allo on kosketusvuorovaikutuksessa jalan kanssa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6" name="Tekstikehys 10"/>
          <p:cNvSpPr/>
          <p:nvPr/>
        </p:nvSpPr>
        <p:spPr>
          <a:xfrm>
            <a:off x="179280" y="508464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Pallo painaa  maanpint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2700360" y="5856120"/>
            <a:ext cx="2232000" cy="50328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M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5"/>
          <p:cNvSpPr/>
          <p:nvPr/>
        </p:nvSpPr>
        <p:spPr>
          <a:xfrm>
            <a:off x="3119400" y="4726080"/>
            <a:ext cx="914400" cy="91440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Pa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2830680" y="5661000"/>
            <a:ext cx="1944360" cy="20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Maan pi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3708360" y="4365720"/>
            <a:ext cx="194472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jal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19280" y="26028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sketusvuorovaikutuk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04000" y="3068640"/>
            <a:ext cx="1944720" cy="3417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361040" y="3357720"/>
            <a:ext cx="21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lka painaa pall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812000" y="3716280"/>
            <a:ext cx="216000" cy="720720"/>
          </a:xfrm>
          <a:prstGeom prst="downArrow">
            <a:avLst>
              <a:gd name="adj1" fmla="val 50000"/>
              <a:gd name="adj2" fmla="val 8341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172360" y="3645000"/>
            <a:ext cx="216000" cy="720720"/>
          </a:xfrm>
          <a:prstGeom prst="upArrow">
            <a:avLst>
              <a:gd name="adj1" fmla="val 50000"/>
              <a:gd name="adj2" fmla="val 83417"/>
            </a:avLst>
          </a:prstGeom>
          <a:solidFill>
            <a:srgbClr val="9933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08560" y="3860640"/>
            <a:ext cx="21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Pallo työntää jalk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24720" y="5516640"/>
            <a:ext cx="287280" cy="976320"/>
          </a:xfrm>
          <a:prstGeom prst="upArrow">
            <a:avLst>
              <a:gd name="adj1" fmla="val 50000"/>
              <a:gd name="adj2" fmla="val 8496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01080" y="5589720"/>
            <a:ext cx="287280" cy="976320"/>
          </a:xfrm>
          <a:prstGeom prst="downArrow">
            <a:avLst>
              <a:gd name="adj1" fmla="val 50000"/>
              <a:gd name="adj2" fmla="val 84962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3960" y="5445000"/>
            <a:ext cx="27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Maanpinta työntää pall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kstikehys 1"/>
          <p:cNvSpPr/>
          <p:nvPr/>
        </p:nvSpPr>
        <p:spPr>
          <a:xfrm>
            <a:off x="1441800" y="714240"/>
            <a:ext cx="556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Vuorovaikutus voi oll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kstikehys 2"/>
          <p:cNvSpPr/>
          <p:nvPr/>
        </p:nvSpPr>
        <p:spPr>
          <a:xfrm>
            <a:off x="2054160" y="1857240"/>
            <a:ext cx="185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jatku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kstikehys 3"/>
          <p:cNvSpPr/>
          <p:nvPr/>
        </p:nvSpPr>
        <p:spPr>
          <a:xfrm>
            <a:off x="3232800" y="2428920"/>
            <a:ext cx="542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aan vetovoima vaikuttaa koko aj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kstikehys 4"/>
          <p:cNvSpPr/>
          <p:nvPr/>
        </p:nvSpPr>
        <p:spPr>
          <a:xfrm>
            <a:off x="2137320" y="3786120"/>
            <a:ext cx="255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hetkellin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kstikehys 5"/>
          <p:cNvSpPr/>
          <p:nvPr/>
        </p:nvSpPr>
        <p:spPr>
          <a:xfrm>
            <a:off x="3602520" y="4786200"/>
            <a:ext cx="187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eulanpi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6072120" y="4572000"/>
            <a:ext cx="1236600" cy="9669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2"/>
          <a:stretch/>
        </p:blipFill>
        <p:spPr>
          <a:xfrm>
            <a:off x="5072040" y="1500120"/>
            <a:ext cx="7812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11:32:51Z</dcterms:created>
  <dc:creator>Ritva Tamminen</dc:creator>
  <dc:description/>
  <dc:language>en-US</dc:language>
  <cp:lastModifiedBy>tammiri</cp:lastModifiedBy>
  <dcterms:modified xsi:type="dcterms:W3CDTF">2010-10-24T08:30:29Z</dcterms:modified>
  <cp:revision>9</cp:revision>
  <dc:subject/>
  <dc:title>Vuorovaikutus</dc:title>
</cp:coreProperties>
</file>